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4BF3E-A66F-4374-97C4-21901A6A4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6862E-B167-4D57-80AE-4DBB2313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CEC69-5186-4071-8034-1CC662F49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06C70-7307-4CA3-B04E-135A3C7F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3CEB-CF79-45CA-9CA3-CFECBCD8B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E69B-04C9-4151-952A-6DD1310D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9EC8-4BA4-4C0F-ABC7-CB4264F0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75C7-B5B8-41FD-9D4C-B8607F36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434F-E6AA-4C6C-91B0-452D008B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7873-BD2D-4B5A-AD61-A614C0CB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CA9D-EC8C-46DD-AA52-A9B614A8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8D1CB-2829-4395-89D5-B667D4B9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5B7F-A643-4014-9C14-1A9466FC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33FF-7D22-4843-A375-4F30EAE2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3DCB-3C21-4E19-90D5-C58C6EAA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361B-1D7D-4B98-BD6D-C6262CE5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4A73-2C85-4C69-9789-C66C330D9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4A597-84A3-4A5B-BD10-879F7678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FA19D-DA30-4FFB-BCC7-BDCC0BFE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E74CE-1F4C-4A65-AD4C-B22236B0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3B406-0720-46BA-AADA-33BBDE76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3D531-914D-4AE1-8665-3CFD208E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5D3A1-3F75-4EAF-B7B8-64F00D6A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541E3-4238-4922-A162-21A4DED3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BBFB-1C9A-47A3-865F-910DBE3E9E6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9715-DBBC-4F59-92D7-EDDB466A78D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23040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05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.234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Вилнее буря зл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ощта тъмней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оряците весл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пират, ей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е тръпнат, плашат с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о чуят там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Съм, не бойте се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Съм - мир вам!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545760"/>
            <a:ext cx="10082160" cy="55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  Смълча се буря зл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пря морски рев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де си пак вълн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вой тих напев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ъй чезне мрак пред нас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скръб и срам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ом чуем сладкий глас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Съм - мир вам!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501480"/>
            <a:ext cx="957744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 Христе възлюбен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лизо бъд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ез морските вълн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ни вод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в смъртний бурен час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шепни туй нам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ерзайте! Аз Съм с вас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Съм - мир вам!"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0-17T15:03:59Z</dcterms:modified>
  <cp:revision>138</cp:revision>
  <dc:subject/>
  <dc:title>Slide 1</dc:title>
</cp:coreProperties>
</file>